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Categories.wav" ContentType="audio/x-wav"/>
  <Override PartName="/ppt/media/theme2.wav" ContentType="audio/x-wav"/>
  <Override PartName="/ppt/media/Daily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BE03-746C-4102-BAD9-73E0E0E49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C06D-451A-49D4-8A9C-E0EDE8CE65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01B3-AADB-4E48-BDE4-993C2326AB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792E-C44F-4B2C-A4B1-9E454F1BF2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91BF-BB36-41E6-9CCA-10E849541D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391E-4872-4FFF-9137-AE84425C46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F6D2-F34C-47E7-8C03-5190457BF4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1A18-AEC6-40B5-A847-225E92C7CF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98AD-A1A0-48EE-8DCD-C74022F9EF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CBFE-E8FE-4D20-B470-14F83F83DA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77BF-F7B8-45F2-94E7-AA1FF7AF0D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49F6-61A4-4D58-92B3-BD70E35BA1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F82A-9797-44E6-8C02-3B7F73028E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756C-C8D7-4EC3-ACD3-47C5F9453C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A480-6B63-42C1-AA6D-067383A8F9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1E4F-17F5-428C-821B-E8BA39C053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9A4E-1BFE-4B65-8C38-E08BCDD9DF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0EF4-E9A6-4264-84C6-20823874B2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7861-6D0D-441C-BEE5-D8042DD911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8C6B-A038-4C89-9F8E-CE70C4F2B3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99B2-B8AB-4279-B447-4CF8315400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A6E6-E69A-4E6B-BB13-CCB1F1F51F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4A9C-9262-4C1E-AD7A-0424C88BCA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BFFE-521A-4EF7-AF25-F053AD3653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4EF2-906A-440E-B628-66291315C3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720F-7686-4C8F-8925-E914D755C5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9C8A-F25D-465B-9185-CA71639F88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6491-DF5B-495A-9541-95EB160DE7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0B80-3EE5-4530-BC63-3767751424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29F5-C170-4561-BFE8-41687F0B86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F845-570E-42D6-97D5-6FA6314BBD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F254-1830-4DE5-AFAE-E765187AB4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2F39-BB99-4BFB-ABC7-1D76782D57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814C-7E43-48E9-A71E-468B781EAD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F846-A996-4C5D-BEC0-E56ACF3AA2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9931-393A-42B0-A868-01A6474F50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EA7A-95C8-4AA9-AA62-6815F72E89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2568-171C-41F7-A25C-09FA47847C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E30B-3DC7-4A82-8F21-BA9F3A78AF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9F27-FB0F-4496-A783-BEF06CD181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71F1-6297-40A1-9217-BF44D8153C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E3B8-8410-49FC-9DC0-755177AFB9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9D3A-736D-4EEB-A7DC-15E93E811B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73D5-BC68-44D1-9AD6-6C58114DEC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53A8-5417-4AC1-BFD6-4BE273E080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3B27-5C01-47FF-A2F7-31BF0F7B2E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0EB5-5CB4-46E0-A768-17655F9C7D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3107-3D23-4A9D-9BFF-F98E4B9AA5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F5BF-5E3C-4AA9-9680-B075D5BE28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5E39-5ABC-4909-87BF-CF19D23535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E69E-416C-4945-B031-C551E23890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D0F3-6D1D-45DC-901F-05E1F7E709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DE82-BD37-4BA3-B77F-F8D367E171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1FF9-0E93-47E8-8390-8EDFB76EA7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B637-2270-439A-ABDC-8E0C8CA511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5B34-0239-4A26-AA04-E8DBCD6F53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94C1-02D2-4CF0-943F-13757392E4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D99A-18B7-4C68-854C-23E288E885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9F23-4578-4F46-9E39-E4992A6770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8F97-575C-4C59-B2AE-609A070C8D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440C-4781-48A1-AE34-1130492A47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F48B-AF59-437C-BB08-73132B6D10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FCA9-F7B5-4C1C-AE6C-26AD10483F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D5EB-75CB-4CAE-B78D-C981B6609A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0ABA-54C6-441D-9D71-FC725DEBC4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6F2E-944B-4F16-961A-31A3127CFE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13A74-AFE5-456F-94B1-EAC4E0D6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EE7B1-C0A6-4CA0-8EC3-BD6F90FB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1A68F-7FD4-43DD-BA3F-5092B371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7819C-C687-4F3B-80FD-80575D12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93FEF-AECF-4CE7-A6F3-BE993AD4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796B9-C6AF-49B7-B293-BAB3D456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2B576-EDBE-4988-B4F7-7A63BFC4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49489-6218-4AE7-9DB3-067EC6F5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C4C09-0C5F-4BBD-ABA0-3A31EAD2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2869E-E6C1-4405-970A-A6209DD8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CF3B6-C504-4E7B-8868-4FC55366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4E606-FA7C-4731-8102-F48A2714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01000" y="655272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9421-4DEE-4141-B78A-14E23D5EBA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theme2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4.xml"/><Relationship Id="rId3" Type="http://schemas.openxmlformats.org/officeDocument/2006/relationships/slide" Target="slide24.xml"/><Relationship Id="rId4" Type="http://schemas.openxmlformats.org/officeDocument/2006/relationships/slide" Target="slide34.xml"/><Relationship Id="rId5" Type="http://schemas.openxmlformats.org/officeDocument/2006/relationships/slide" Target="slide44.xml"/><Relationship Id="rId6" Type="http://schemas.openxmlformats.org/officeDocument/2006/relationships/slide" Target="slide54.xml"/><Relationship Id="rId7" Type="http://schemas.openxmlformats.org/officeDocument/2006/relationships/slide" Target="slide6.xml"/><Relationship Id="rId8" Type="http://schemas.openxmlformats.org/officeDocument/2006/relationships/slide" Target="slide16.xml"/><Relationship Id="rId9" Type="http://schemas.openxmlformats.org/officeDocument/2006/relationships/slide" Target="slide26.xml"/><Relationship Id="rId10" Type="http://schemas.openxmlformats.org/officeDocument/2006/relationships/slide" Target="slide36.xml"/><Relationship Id="rId11" Type="http://schemas.openxmlformats.org/officeDocument/2006/relationships/slide" Target="slide46.xml"/><Relationship Id="rId12" Type="http://schemas.openxmlformats.org/officeDocument/2006/relationships/slide" Target="slide55.xml"/><Relationship Id="rId13" Type="http://schemas.openxmlformats.org/officeDocument/2006/relationships/slide" Target="slide8.xml"/><Relationship Id="rId14" Type="http://schemas.openxmlformats.org/officeDocument/2006/relationships/slide" Target="slide18.xml"/><Relationship Id="rId15" Type="http://schemas.openxmlformats.org/officeDocument/2006/relationships/slide" Target="slide28.xml"/><Relationship Id="rId16" Type="http://schemas.openxmlformats.org/officeDocument/2006/relationships/slide" Target="slide38.xml"/><Relationship Id="rId17" Type="http://schemas.openxmlformats.org/officeDocument/2006/relationships/slide" Target="slide48.xml"/><Relationship Id="rId18" Type="http://schemas.openxmlformats.org/officeDocument/2006/relationships/slide" Target="slide56.xml"/><Relationship Id="rId19" Type="http://schemas.openxmlformats.org/officeDocument/2006/relationships/slide" Target="slide10.xml"/><Relationship Id="rId20" Type="http://schemas.openxmlformats.org/officeDocument/2006/relationships/slide" Target="slide20.xml"/><Relationship Id="rId21" Type="http://schemas.openxmlformats.org/officeDocument/2006/relationships/slide" Target="slide30.xml"/><Relationship Id="rId22" Type="http://schemas.openxmlformats.org/officeDocument/2006/relationships/slide" Target="slide40.xml"/><Relationship Id="rId23" Type="http://schemas.openxmlformats.org/officeDocument/2006/relationships/slide" Target="slide50.xml"/><Relationship Id="rId24" Type="http://schemas.openxmlformats.org/officeDocument/2006/relationships/slide" Target="slide57.xml"/><Relationship Id="rId25" Type="http://schemas.openxmlformats.org/officeDocument/2006/relationships/slide" Target="slide12.xml"/><Relationship Id="rId26" Type="http://schemas.openxmlformats.org/officeDocument/2006/relationships/slide" Target="slide22.xml"/><Relationship Id="rId27" Type="http://schemas.openxmlformats.org/officeDocument/2006/relationships/slide" Target="slide32.xml"/><Relationship Id="rId28" Type="http://schemas.openxmlformats.org/officeDocument/2006/relationships/slide" Target="slide42.xml"/><Relationship Id="rId29" Type="http://schemas.openxmlformats.org/officeDocument/2006/relationships/slide" Target="slide52.xml"/><Relationship Id="rId30" Type="http://schemas.openxmlformats.org/officeDocument/2006/relationships/slide" Target="slide58.xml"/><Relationship Id="rId31" Type="http://schemas.openxmlformats.org/officeDocument/2006/relationships/slide" Target="slide59.xml"/><Relationship Id="rId32" Type="http://schemas.openxmlformats.org/officeDocument/2006/relationships/audio" Target="../media/Categories.wav"/><Relationship Id="rId33" Type="http://schemas.openxmlformats.org/officeDocument/2006/relationships/audio" Target="../media/Categories.wav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ail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Dail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752480" y="2666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ce to Beg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7e7ff"/>
                </a:solidFill>
                <a:latin typeface="Arial"/>
              </a:rPr>
              <a:t>Charlotte’s Web Jeopardy!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9" name="Picture 5" descr="j0344853"/>
          <p:cNvPicPr/>
          <p:nvPr/>
        </p:nvPicPr>
        <p:blipFill>
          <a:blip r:embed="rId1"/>
          <a:stretch/>
        </p:blipFill>
        <p:spPr>
          <a:xfrm>
            <a:off x="762120" y="4724280"/>
            <a:ext cx="1236600" cy="1650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MCj03700920000[1]"/>
          <p:cNvPicPr/>
          <p:nvPr/>
        </p:nvPicPr>
        <p:blipFill>
          <a:blip r:embed="rId2"/>
          <a:stretch/>
        </p:blipFill>
        <p:spPr>
          <a:xfrm>
            <a:off x="6781680" y="5334120"/>
            <a:ext cx="1957680" cy="1038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MCj04260220000[1]"/>
          <p:cNvPicPr/>
          <p:nvPr/>
        </p:nvPicPr>
        <p:blipFill>
          <a:blip r:embed="rId3"/>
          <a:stretch/>
        </p:blipFill>
        <p:spPr>
          <a:xfrm>
            <a:off x="3581280" y="4724280"/>
            <a:ext cx="184176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hem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s character ran errands for Charlotte to help her find words to write in her web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oper Black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o is Templeton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AutoShape 4">
            <a:hlinkClick r:id="rId1" action="ppaction://hlinksldjump"/>
          </p:cNvPr>
          <p:cNvSpPr/>
          <p:nvPr/>
        </p:nvSpPr>
        <p:spPr>
          <a:xfrm>
            <a:off x="6858000" y="5715000"/>
            <a:ext cx="2133720" cy="838080"/>
          </a:xfrm>
          <a:custGeom>
            <a:avLst/>
            <a:gdLst>
              <a:gd name="textAreaLeft" fmla="*/ 54000 w 2133720"/>
              <a:gd name="textAreaRight" fmla="*/ 2079720 w 2133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4978" h="21600">
                <a:moveTo>
                  <a:pt x="0" y="0"/>
                </a:moveTo>
                <a:lnTo>
                  <a:pt x="54978" y="0"/>
                </a:lnTo>
                <a:lnTo>
                  <a:pt x="54978" y="21600"/>
                </a:lnTo>
                <a:lnTo>
                  <a:pt x="0" y="21600"/>
                </a:lnTo>
                <a:close/>
              </a:path>
              <a:path fill="lightenLess" w="54978" h="21600">
                <a:moveTo>
                  <a:pt x="0" y="0"/>
                </a:moveTo>
                <a:lnTo>
                  <a:pt x="54978" y="0"/>
                </a:lnTo>
                <a:lnTo>
                  <a:pt x="53578" y="1400"/>
                </a:lnTo>
                <a:lnTo>
                  <a:pt x="1400" y="1400"/>
                </a:lnTo>
                <a:close/>
              </a:path>
              <a:path fill="darken" w="54978" h="21600">
                <a:moveTo>
                  <a:pt x="54978" y="0"/>
                </a:moveTo>
                <a:lnTo>
                  <a:pt x="54978" y="21600"/>
                </a:lnTo>
                <a:lnTo>
                  <a:pt x="53578" y="20200"/>
                </a:lnTo>
                <a:lnTo>
                  <a:pt x="53578" y="1400"/>
                </a:lnTo>
                <a:close/>
              </a:path>
              <a:path fill="darkenLess" w="54978" h="21600">
                <a:moveTo>
                  <a:pt x="54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78" y="20200"/>
                </a:lnTo>
                <a:close/>
              </a:path>
              <a:path fill="lighten" w="54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78" h="21600">
                <a:moveTo>
                  <a:pt x="20483" y="10800"/>
                </a:moveTo>
                <a:lnTo>
                  <a:pt x="34496" y="3794"/>
                </a:lnTo>
                <a:lnTo>
                  <a:pt x="34496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se three characters stay with Wilbur in the barn at the end of the book.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oper Black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o are Joy, Aranea, and Nellie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AutoShape 4">
            <a:hlinkClick r:id="rId1" action="ppaction://hlinksldjump"/>
          </p:cNvPr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r. Arable wanted to kill Wilbur because he was bigger than all of the other pigs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oper Black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l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AutoShape 4">
            <a:hlinkClick r:id="rId1" action="ppaction://hlinksldjump"/>
          </p:cNvPr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first words Charlotte spun in her web were “some pig”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oper Black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u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ilbur won the blue ribbon and $25.00 at the fai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l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066680" y="304920"/>
            <a:ext cx="670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enguiat Frisky"/>
              </a:rPr>
              <a:t>JEOPARDY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088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78272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18456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58640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98788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39152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8088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78272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318456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58640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598788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739152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8088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78272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318456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458640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598788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739152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38088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178272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318456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458640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598788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739152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38088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5"/>
          <p:cNvSpPr/>
          <p:nvPr/>
        </p:nvSpPr>
        <p:spPr>
          <a:xfrm>
            <a:off x="178272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36"/>
          <p:cNvSpPr/>
          <p:nvPr/>
        </p:nvSpPr>
        <p:spPr>
          <a:xfrm>
            <a:off x="318456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37"/>
          <p:cNvSpPr/>
          <p:nvPr/>
        </p:nvSpPr>
        <p:spPr>
          <a:xfrm>
            <a:off x="458640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598788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739152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46"/>
          <p:cNvSpPr/>
          <p:nvPr/>
        </p:nvSpPr>
        <p:spPr>
          <a:xfrm>
            <a:off x="38088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haracter Stud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47"/>
          <p:cNvSpPr/>
          <p:nvPr/>
        </p:nvSpPr>
        <p:spPr>
          <a:xfrm>
            <a:off x="178272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rue or Fal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8"/>
          <p:cNvSpPr/>
          <p:nvPr/>
        </p:nvSpPr>
        <p:spPr>
          <a:xfrm>
            <a:off x="318456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Quotable Quo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458640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ultiple Choi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5987880" y="1447920"/>
            <a:ext cx="132588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quenc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7391520" y="1447920"/>
            <a:ext cx="137160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65">
            <a:hlinkClick r:id="rId31" action="ppaction://hlinksldjump"/>
          </p:cNvPr>
          <p:cNvSpPr/>
          <p:nvPr/>
        </p:nvSpPr>
        <p:spPr>
          <a:xfrm>
            <a:off x="7162920" y="6094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n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tegori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tegori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pig who won first prize at the fair was named Uncl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u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rlotte had 514 eggs in her egg sack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character said, “This is the most terrible case of injustice I have ever heard of.”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en asked when the eggs would hatch, this character said, “Appr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ximately-oximately thirty days, all told.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00400" y="4267080"/>
            <a:ext cx="2362320" cy="60984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3635" h="21600">
                <a:moveTo>
                  <a:pt x="0" y="0"/>
                </a:moveTo>
                <a:lnTo>
                  <a:pt x="83635" y="0"/>
                </a:lnTo>
                <a:lnTo>
                  <a:pt x="83635" y="21600"/>
                </a:lnTo>
                <a:lnTo>
                  <a:pt x="0" y="21600"/>
                </a:lnTo>
                <a:close/>
              </a:path>
              <a:path fill="lightenLess" w="83635" h="21600">
                <a:moveTo>
                  <a:pt x="0" y="0"/>
                </a:moveTo>
                <a:lnTo>
                  <a:pt x="83635" y="0"/>
                </a:lnTo>
                <a:lnTo>
                  <a:pt x="82235" y="1400"/>
                </a:lnTo>
                <a:lnTo>
                  <a:pt x="1400" y="1400"/>
                </a:lnTo>
                <a:close/>
              </a:path>
              <a:path fill="darken" w="83635" h="21600">
                <a:moveTo>
                  <a:pt x="83635" y="0"/>
                </a:moveTo>
                <a:lnTo>
                  <a:pt x="83635" y="21600"/>
                </a:lnTo>
                <a:lnTo>
                  <a:pt x="82235" y="20200"/>
                </a:lnTo>
                <a:lnTo>
                  <a:pt x="82235" y="1400"/>
                </a:lnTo>
                <a:close/>
              </a:path>
              <a:path fill="darkenLess" w="83635" h="21600">
                <a:moveTo>
                  <a:pt x="8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35" y="20200"/>
                </a:lnTo>
                <a:close/>
              </a:path>
              <a:path fill="lighten" w="8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35" h="21600">
                <a:moveTo>
                  <a:pt x="4181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35" h="21600">
                <a:moveTo>
                  <a:pt x="42923" y="14281"/>
                </a:moveTo>
                <a:lnTo>
                  <a:pt x="42923" y="12323"/>
                </a:lnTo>
                <a:cubicBezTo>
                  <a:pt x="42923" y="11496"/>
                  <a:pt x="43253" y="10800"/>
                  <a:pt x="43854" y="10800"/>
                </a:cubicBezTo>
                <a:cubicBezTo>
                  <a:pt x="44985" y="10800"/>
                  <a:pt x="45882" y="9434"/>
                  <a:pt x="45882" y="7849"/>
                </a:cubicBezTo>
                <a:cubicBezTo>
                  <a:pt x="45882" y="5534"/>
                  <a:pt x="44028" y="3794"/>
                  <a:pt x="41817" y="3794"/>
                </a:cubicBezTo>
                <a:cubicBezTo>
                  <a:pt x="39607" y="3794"/>
                  <a:pt x="37935" y="5534"/>
                  <a:pt x="37935" y="7849"/>
                </a:cubicBezTo>
                <a:lnTo>
                  <a:pt x="39789" y="7849"/>
                </a:lnTo>
                <a:cubicBezTo>
                  <a:pt x="39789" y="6709"/>
                  <a:pt x="40712" y="5821"/>
                  <a:pt x="41817" y="5821"/>
                </a:cubicBezTo>
                <a:cubicBezTo>
                  <a:pt x="42923" y="5821"/>
                  <a:pt x="43854" y="6709"/>
                  <a:pt x="43854" y="7849"/>
                </a:cubicBezTo>
                <a:cubicBezTo>
                  <a:pt x="43854" y="8589"/>
                  <a:pt x="43384" y="9320"/>
                  <a:pt x="42923" y="9320"/>
                </a:cubicBezTo>
                <a:cubicBezTo>
                  <a:pt x="41817" y="9320"/>
                  <a:pt x="40712" y="10800"/>
                  <a:pt x="40712" y="12323"/>
                </a:cubicBezTo>
                <a:lnTo>
                  <a:pt x="40712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character said, “You my friend and I think you’re sensational.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4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828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Daily Double Graphic and Sound Effect!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32004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DO NOT DELETE THIS SLIDE!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Deleting it may cause the game links to work improperly.  This slide is hidden during the game, and WILL not appea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slide view mode, copy the above (red) graphic (click once to select; right click the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order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and choose “copy”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te the answer slide which you want to be the daily dou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ight-click and choose “paste”.  If necessary, reposition the graphic so that it does not cover the answer tex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029"/>
          <p:cNvSpPr/>
          <p:nvPr/>
        </p:nvSpPr>
        <p:spPr>
          <a:xfrm>
            <a:off x="1523880" y="609480"/>
            <a:ext cx="6324840" cy="10083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Daily Double!!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character described Wilbur as a, “fine specimen of a pig—it’s no bigger than a white rat.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352680" y="342900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character defined frolic as, “to have fun…to run and skip and make merry.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23880" y="609480"/>
            <a:ext cx="6324840" cy="10083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Daily Double!!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ern named the pig _________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. Pigg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. Uncl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. Wilbu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. Charlott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276720" y="4114800"/>
            <a:ext cx="2361960" cy="609480"/>
          </a:xfrm>
          <a:custGeom>
            <a:avLst/>
            <a:gdLst>
              <a:gd name="textAreaLeft" fmla="*/ 39240 w 2361960"/>
              <a:gd name="textAreaRight" fmla="*/ 2322720 w 236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71" h="21600">
                <a:moveTo>
                  <a:pt x="0" y="0"/>
                </a:moveTo>
                <a:lnTo>
                  <a:pt x="83671" y="0"/>
                </a:lnTo>
                <a:lnTo>
                  <a:pt x="83671" y="21600"/>
                </a:lnTo>
                <a:lnTo>
                  <a:pt x="0" y="21600"/>
                </a:lnTo>
                <a:close/>
              </a:path>
              <a:path fill="lightenLess" w="83671" h="21600">
                <a:moveTo>
                  <a:pt x="0" y="0"/>
                </a:moveTo>
                <a:lnTo>
                  <a:pt x="83671" y="0"/>
                </a:lnTo>
                <a:lnTo>
                  <a:pt x="82271" y="1400"/>
                </a:lnTo>
                <a:lnTo>
                  <a:pt x="1400" y="1400"/>
                </a:lnTo>
                <a:close/>
              </a:path>
              <a:path fill="darken" w="83671" h="21600">
                <a:moveTo>
                  <a:pt x="83671" y="0"/>
                </a:moveTo>
                <a:lnTo>
                  <a:pt x="83671" y="21600"/>
                </a:lnTo>
                <a:lnTo>
                  <a:pt x="82271" y="20200"/>
                </a:lnTo>
                <a:lnTo>
                  <a:pt x="82271" y="1400"/>
                </a:lnTo>
                <a:close/>
              </a:path>
              <a:path fill="darkenLess" w="83671" h="21600">
                <a:moveTo>
                  <a:pt x="83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71" y="20200"/>
                </a:lnTo>
                <a:close/>
              </a:path>
              <a:path fill="lighten" w="83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71" h="21600">
                <a:moveTo>
                  <a:pt x="418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71" h="21600">
                <a:moveTo>
                  <a:pt x="42941" y="14281"/>
                </a:moveTo>
                <a:lnTo>
                  <a:pt x="42941" y="12323"/>
                </a:lnTo>
                <a:cubicBezTo>
                  <a:pt x="42941" y="11496"/>
                  <a:pt x="43272" y="10800"/>
                  <a:pt x="43872" y="10800"/>
                </a:cubicBezTo>
                <a:cubicBezTo>
                  <a:pt x="45004" y="10800"/>
                  <a:pt x="45900" y="9434"/>
                  <a:pt x="45900" y="7849"/>
                </a:cubicBezTo>
                <a:cubicBezTo>
                  <a:pt x="45900" y="5534"/>
                  <a:pt x="44046" y="3794"/>
                  <a:pt x="41836" y="3794"/>
                </a:cubicBezTo>
                <a:cubicBezTo>
                  <a:pt x="39625" y="3794"/>
                  <a:pt x="37954" y="5534"/>
                  <a:pt x="37954" y="7849"/>
                </a:cubicBezTo>
                <a:lnTo>
                  <a:pt x="39808" y="7849"/>
                </a:lnTo>
                <a:cubicBezTo>
                  <a:pt x="39808" y="6709"/>
                  <a:pt x="40730" y="5821"/>
                  <a:pt x="41836" y="5821"/>
                </a:cubicBezTo>
                <a:cubicBezTo>
                  <a:pt x="42941" y="5821"/>
                  <a:pt x="43872" y="6709"/>
                  <a:pt x="43872" y="7849"/>
                </a:cubicBezTo>
                <a:cubicBezTo>
                  <a:pt x="43872" y="8589"/>
                  <a:pt x="43402" y="9320"/>
                  <a:pt x="42941" y="9320"/>
                </a:cubicBezTo>
                <a:cubicBezTo>
                  <a:pt x="41836" y="9320"/>
                  <a:pt x="40730" y="10800"/>
                  <a:pt x="40730" y="12323"/>
                </a:cubicBezTo>
                <a:lnTo>
                  <a:pt x="40730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y did Charlotte put her “victims” to sleep before she ate them?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. to perform operations on the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. she didn’t like them talking i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r web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. she didn’t want them to feel any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in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. she didn’t put them to slee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124080" y="5410080"/>
            <a:ext cx="2362320" cy="60984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3635" h="21600">
                <a:moveTo>
                  <a:pt x="0" y="0"/>
                </a:moveTo>
                <a:lnTo>
                  <a:pt x="83635" y="0"/>
                </a:lnTo>
                <a:lnTo>
                  <a:pt x="83635" y="21600"/>
                </a:lnTo>
                <a:lnTo>
                  <a:pt x="0" y="21600"/>
                </a:lnTo>
                <a:close/>
              </a:path>
              <a:path fill="lightenLess" w="83635" h="21600">
                <a:moveTo>
                  <a:pt x="0" y="0"/>
                </a:moveTo>
                <a:lnTo>
                  <a:pt x="83635" y="0"/>
                </a:lnTo>
                <a:lnTo>
                  <a:pt x="82235" y="1400"/>
                </a:lnTo>
                <a:lnTo>
                  <a:pt x="1400" y="1400"/>
                </a:lnTo>
                <a:close/>
              </a:path>
              <a:path fill="darken" w="83635" h="21600">
                <a:moveTo>
                  <a:pt x="83635" y="0"/>
                </a:moveTo>
                <a:lnTo>
                  <a:pt x="83635" y="21600"/>
                </a:lnTo>
                <a:lnTo>
                  <a:pt x="82235" y="20200"/>
                </a:lnTo>
                <a:lnTo>
                  <a:pt x="82235" y="1400"/>
                </a:lnTo>
                <a:close/>
              </a:path>
              <a:path fill="darkenLess" w="83635" h="21600">
                <a:moveTo>
                  <a:pt x="8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35" y="20200"/>
                </a:lnTo>
                <a:close/>
              </a:path>
              <a:path fill="lighten" w="8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35" h="21600">
                <a:moveTo>
                  <a:pt x="4181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35" h="21600">
                <a:moveTo>
                  <a:pt x="42923" y="14281"/>
                </a:moveTo>
                <a:lnTo>
                  <a:pt x="42923" y="12323"/>
                </a:lnTo>
                <a:cubicBezTo>
                  <a:pt x="42923" y="11496"/>
                  <a:pt x="43253" y="10800"/>
                  <a:pt x="43854" y="10800"/>
                </a:cubicBezTo>
                <a:cubicBezTo>
                  <a:pt x="44985" y="10800"/>
                  <a:pt x="45882" y="9434"/>
                  <a:pt x="45882" y="7849"/>
                </a:cubicBezTo>
                <a:cubicBezTo>
                  <a:pt x="45882" y="5534"/>
                  <a:pt x="44028" y="3794"/>
                  <a:pt x="41817" y="3794"/>
                </a:cubicBezTo>
                <a:cubicBezTo>
                  <a:pt x="39607" y="3794"/>
                  <a:pt x="37935" y="5534"/>
                  <a:pt x="37935" y="7849"/>
                </a:cubicBezTo>
                <a:lnTo>
                  <a:pt x="39789" y="7849"/>
                </a:lnTo>
                <a:cubicBezTo>
                  <a:pt x="39789" y="6709"/>
                  <a:pt x="40712" y="5821"/>
                  <a:pt x="41817" y="5821"/>
                </a:cubicBezTo>
                <a:cubicBezTo>
                  <a:pt x="42923" y="5821"/>
                  <a:pt x="43854" y="6709"/>
                  <a:pt x="43854" y="7849"/>
                </a:cubicBezTo>
                <a:cubicBezTo>
                  <a:pt x="43854" y="8589"/>
                  <a:pt x="43384" y="9320"/>
                  <a:pt x="42923" y="9320"/>
                </a:cubicBezTo>
                <a:cubicBezTo>
                  <a:pt x="41817" y="9320"/>
                  <a:pt x="40712" y="10800"/>
                  <a:pt x="40712" y="12323"/>
                </a:cubicBezTo>
                <a:lnTo>
                  <a:pt x="40712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o did Wilbur live with after Fern?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. The Arable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. The Zuckerman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. The Templeton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. The Hogget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3124080" y="525780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s character was the first to save Wilbur’s lif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AutoShape 1039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oper Black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o is not Wilbur’s friend?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. Fer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. Templet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. Charlott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. Aver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200400" y="434340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o stayed with Wilbur overnight at the fair?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. Fern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. Mr. Zuckerman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. Mr. Arabl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. Charlott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048120" y="4724280"/>
            <a:ext cx="2361960" cy="609840"/>
          </a:xfrm>
          <a:custGeom>
            <a:avLst/>
            <a:gdLst>
              <a:gd name="textAreaLeft" fmla="*/ 39240 w 2361960"/>
              <a:gd name="textAreaRight" fmla="*/ 2322720 w 2361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3622" h="21600">
                <a:moveTo>
                  <a:pt x="0" y="0"/>
                </a:moveTo>
                <a:lnTo>
                  <a:pt x="83622" y="0"/>
                </a:lnTo>
                <a:lnTo>
                  <a:pt x="83622" y="21600"/>
                </a:lnTo>
                <a:lnTo>
                  <a:pt x="0" y="21600"/>
                </a:lnTo>
                <a:close/>
              </a:path>
              <a:path fill="lightenLess" w="83622" h="21600">
                <a:moveTo>
                  <a:pt x="0" y="0"/>
                </a:moveTo>
                <a:lnTo>
                  <a:pt x="83622" y="0"/>
                </a:lnTo>
                <a:lnTo>
                  <a:pt x="82222" y="1400"/>
                </a:lnTo>
                <a:lnTo>
                  <a:pt x="1400" y="1400"/>
                </a:lnTo>
                <a:close/>
              </a:path>
              <a:path fill="darken" w="83622" h="21600">
                <a:moveTo>
                  <a:pt x="83622" y="0"/>
                </a:moveTo>
                <a:lnTo>
                  <a:pt x="83622" y="21600"/>
                </a:lnTo>
                <a:lnTo>
                  <a:pt x="82222" y="20200"/>
                </a:lnTo>
                <a:lnTo>
                  <a:pt x="82222" y="1400"/>
                </a:lnTo>
                <a:close/>
              </a:path>
              <a:path fill="darkenLess" w="83622" h="21600">
                <a:moveTo>
                  <a:pt x="83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22" y="20200"/>
                </a:lnTo>
                <a:close/>
              </a:path>
              <a:path fill="lighten" w="83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22" h="21600">
                <a:moveTo>
                  <a:pt x="41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22" h="21600">
                <a:moveTo>
                  <a:pt x="42916" y="14281"/>
                </a:moveTo>
                <a:lnTo>
                  <a:pt x="42916" y="12323"/>
                </a:lnTo>
                <a:cubicBezTo>
                  <a:pt x="42916" y="11496"/>
                  <a:pt x="43247" y="10800"/>
                  <a:pt x="43848" y="10800"/>
                </a:cubicBezTo>
                <a:cubicBezTo>
                  <a:pt x="44979" y="10800"/>
                  <a:pt x="45876" y="9434"/>
                  <a:pt x="45876" y="7849"/>
                </a:cubicBezTo>
                <a:cubicBezTo>
                  <a:pt x="45876" y="5534"/>
                  <a:pt x="44022" y="3794"/>
                  <a:pt x="41811" y="3794"/>
                </a:cubicBezTo>
                <a:cubicBezTo>
                  <a:pt x="39600" y="3794"/>
                  <a:pt x="37929" y="5534"/>
                  <a:pt x="37929" y="7849"/>
                </a:cubicBezTo>
                <a:lnTo>
                  <a:pt x="39783" y="7849"/>
                </a:lnTo>
                <a:cubicBezTo>
                  <a:pt x="39783" y="6709"/>
                  <a:pt x="40706" y="5821"/>
                  <a:pt x="41811" y="5821"/>
                </a:cubicBezTo>
                <a:cubicBezTo>
                  <a:pt x="42916" y="5821"/>
                  <a:pt x="43848" y="6709"/>
                  <a:pt x="43848" y="7849"/>
                </a:cubicBezTo>
                <a:cubicBezTo>
                  <a:pt x="43848" y="8589"/>
                  <a:pt x="43378" y="9320"/>
                  <a:pt x="42916" y="9320"/>
                </a:cubicBezTo>
                <a:cubicBezTo>
                  <a:pt x="41811" y="9320"/>
                  <a:pt x="40706" y="10800"/>
                  <a:pt x="40706" y="12323"/>
                </a:cubicBezTo>
                <a:lnTo>
                  <a:pt x="40706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ich event happened first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Templeton found words for Charlott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. Charlotte d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3124080" y="3581280"/>
            <a:ext cx="2362320" cy="60984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3635" h="21600">
                <a:moveTo>
                  <a:pt x="0" y="0"/>
                </a:moveTo>
                <a:lnTo>
                  <a:pt x="83635" y="0"/>
                </a:lnTo>
                <a:lnTo>
                  <a:pt x="83635" y="21600"/>
                </a:lnTo>
                <a:lnTo>
                  <a:pt x="0" y="21600"/>
                </a:lnTo>
                <a:close/>
              </a:path>
              <a:path fill="lightenLess" w="83635" h="21600">
                <a:moveTo>
                  <a:pt x="0" y="0"/>
                </a:moveTo>
                <a:lnTo>
                  <a:pt x="83635" y="0"/>
                </a:lnTo>
                <a:lnTo>
                  <a:pt x="82235" y="1400"/>
                </a:lnTo>
                <a:lnTo>
                  <a:pt x="1400" y="1400"/>
                </a:lnTo>
                <a:close/>
              </a:path>
              <a:path fill="darken" w="83635" h="21600">
                <a:moveTo>
                  <a:pt x="83635" y="0"/>
                </a:moveTo>
                <a:lnTo>
                  <a:pt x="83635" y="21600"/>
                </a:lnTo>
                <a:lnTo>
                  <a:pt x="82235" y="20200"/>
                </a:lnTo>
                <a:lnTo>
                  <a:pt x="82235" y="1400"/>
                </a:lnTo>
                <a:close/>
              </a:path>
              <a:path fill="darkenLess" w="83635" h="21600">
                <a:moveTo>
                  <a:pt x="8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35" y="20200"/>
                </a:lnTo>
                <a:close/>
              </a:path>
              <a:path fill="lighten" w="8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35" h="21600">
                <a:moveTo>
                  <a:pt x="4181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35" h="21600">
                <a:moveTo>
                  <a:pt x="42923" y="14281"/>
                </a:moveTo>
                <a:lnTo>
                  <a:pt x="42923" y="12323"/>
                </a:lnTo>
                <a:cubicBezTo>
                  <a:pt x="42923" y="11496"/>
                  <a:pt x="43253" y="10800"/>
                  <a:pt x="43854" y="10800"/>
                </a:cubicBezTo>
                <a:cubicBezTo>
                  <a:pt x="44985" y="10800"/>
                  <a:pt x="45882" y="9434"/>
                  <a:pt x="45882" y="7849"/>
                </a:cubicBezTo>
                <a:cubicBezTo>
                  <a:pt x="45882" y="5534"/>
                  <a:pt x="44028" y="3794"/>
                  <a:pt x="41817" y="3794"/>
                </a:cubicBezTo>
                <a:cubicBezTo>
                  <a:pt x="39607" y="3794"/>
                  <a:pt x="37935" y="5534"/>
                  <a:pt x="37935" y="7849"/>
                </a:cubicBezTo>
                <a:lnTo>
                  <a:pt x="39789" y="7849"/>
                </a:lnTo>
                <a:cubicBezTo>
                  <a:pt x="39789" y="6709"/>
                  <a:pt x="40712" y="5821"/>
                  <a:pt x="41817" y="5821"/>
                </a:cubicBezTo>
                <a:cubicBezTo>
                  <a:pt x="42923" y="5821"/>
                  <a:pt x="43854" y="6709"/>
                  <a:pt x="43854" y="7849"/>
                </a:cubicBezTo>
                <a:cubicBezTo>
                  <a:pt x="43854" y="8589"/>
                  <a:pt x="43384" y="9320"/>
                  <a:pt x="42923" y="9320"/>
                </a:cubicBezTo>
                <a:cubicBezTo>
                  <a:pt x="41817" y="9320"/>
                  <a:pt x="40712" y="10800"/>
                  <a:pt x="40712" y="12323"/>
                </a:cubicBezTo>
                <a:lnTo>
                  <a:pt x="40712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ich event happened first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The spiders leave on web balloon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. Wilbur cries because he is lonel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3200400" y="44197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ich event happened first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Charlotte write humble in her web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. Wilbur wins the priz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. Charlotte makes her egg sa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048120" y="4419720"/>
            <a:ext cx="2361960" cy="609480"/>
          </a:xfrm>
          <a:custGeom>
            <a:avLst/>
            <a:gdLst>
              <a:gd name="textAreaLeft" fmla="*/ 39240 w 2361960"/>
              <a:gd name="textAreaRight" fmla="*/ 2322720 w 236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71" h="21600">
                <a:moveTo>
                  <a:pt x="0" y="0"/>
                </a:moveTo>
                <a:lnTo>
                  <a:pt x="83671" y="0"/>
                </a:lnTo>
                <a:lnTo>
                  <a:pt x="83671" y="21600"/>
                </a:lnTo>
                <a:lnTo>
                  <a:pt x="0" y="21600"/>
                </a:lnTo>
                <a:close/>
              </a:path>
              <a:path fill="lightenLess" w="83671" h="21600">
                <a:moveTo>
                  <a:pt x="0" y="0"/>
                </a:moveTo>
                <a:lnTo>
                  <a:pt x="83671" y="0"/>
                </a:lnTo>
                <a:lnTo>
                  <a:pt x="82271" y="1400"/>
                </a:lnTo>
                <a:lnTo>
                  <a:pt x="1400" y="1400"/>
                </a:lnTo>
                <a:close/>
              </a:path>
              <a:path fill="darken" w="83671" h="21600">
                <a:moveTo>
                  <a:pt x="83671" y="0"/>
                </a:moveTo>
                <a:lnTo>
                  <a:pt x="83671" y="21600"/>
                </a:lnTo>
                <a:lnTo>
                  <a:pt x="82271" y="20200"/>
                </a:lnTo>
                <a:lnTo>
                  <a:pt x="82271" y="1400"/>
                </a:lnTo>
                <a:close/>
              </a:path>
              <a:path fill="darkenLess" w="83671" h="21600">
                <a:moveTo>
                  <a:pt x="83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71" y="20200"/>
                </a:lnTo>
                <a:close/>
              </a:path>
              <a:path fill="lighten" w="83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71" h="21600">
                <a:moveTo>
                  <a:pt x="418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71" h="21600">
                <a:moveTo>
                  <a:pt x="42941" y="14281"/>
                </a:moveTo>
                <a:lnTo>
                  <a:pt x="42941" y="12323"/>
                </a:lnTo>
                <a:cubicBezTo>
                  <a:pt x="42941" y="11496"/>
                  <a:pt x="43272" y="10800"/>
                  <a:pt x="43872" y="10800"/>
                </a:cubicBezTo>
                <a:cubicBezTo>
                  <a:pt x="45004" y="10800"/>
                  <a:pt x="45900" y="9434"/>
                  <a:pt x="45900" y="7849"/>
                </a:cubicBezTo>
                <a:cubicBezTo>
                  <a:pt x="45900" y="5534"/>
                  <a:pt x="44046" y="3794"/>
                  <a:pt x="41836" y="3794"/>
                </a:cubicBezTo>
                <a:cubicBezTo>
                  <a:pt x="39625" y="3794"/>
                  <a:pt x="37954" y="5534"/>
                  <a:pt x="37954" y="7849"/>
                </a:cubicBezTo>
                <a:lnTo>
                  <a:pt x="39808" y="7849"/>
                </a:lnTo>
                <a:cubicBezTo>
                  <a:pt x="39808" y="6709"/>
                  <a:pt x="40730" y="5821"/>
                  <a:pt x="41836" y="5821"/>
                </a:cubicBezTo>
                <a:cubicBezTo>
                  <a:pt x="42941" y="5821"/>
                  <a:pt x="43872" y="6709"/>
                  <a:pt x="43872" y="7849"/>
                </a:cubicBezTo>
                <a:cubicBezTo>
                  <a:pt x="43872" y="8589"/>
                  <a:pt x="43402" y="9320"/>
                  <a:pt x="42941" y="9320"/>
                </a:cubicBezTo>
                <a:cubicBezTo>
                  <a:pt x="41836" y="9320"/>
                  <a:pt x="40730" y="10800"/>
                  <a:pt x="40730" y="12323"/>
                </a:cubicBezTo>
                <a:lnTo>
                  <a:pt x="40730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o is Fern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AutoShape 4">
            <a:hlinkClick r:id="rId1" action="ppaction://hlinksldjump"/>
          </p:cNvPr>
          <p:cNvSpPr/>
          <p:nvPr/>
        </p:nvSpPr>
        <p:spPr>
          <a:xfrm>
            <a:off x="6629400" y="5486400"/>
            <a:ext cx="2133720" cy="838080"/>
          </a:xfrm>
          <a:custGeom>
            <a:avLst/>
            <a:gdLst>
              <a:gd name="textAreaLeft" fmla="*/ 54000 w 2133720"/>
              <a:gd name="textAreaRight" fmla="*/ 2079720 w 2133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4978" h="21600">
                <a:moveTo>
                  <a:pt x="0" y="0"/>
                </a:moveTo>
                <a:lnTo>
                  <a:pt x="54978" y="0"/>
                </a:lnTo>
                <a:lnTo>
                  <a:pt x="54978" y="21600"/>
                </a:lnTo>
                <a:lnTo>
                  <a:pt x="0" y="21600"/>
                </a:lnTo>
                <a:close/>
              </a:path>
              <a:path fill="lightenLess" w="54978" h="21600">
                <a:moveTo>
                  <a:pt x="0" y="0"/>
                </a:moveTo>
                <a:lnTo>
                  <a:pt x="54978" y="0"/>
                </a:lnTo>
                <a:lnTo>
                  <a:pt x="53578" y="1400"/>
                </a:lnTo>
                <a:lnTo>
                  <a:pt x="1400" y="1400"/>
                </a:lnTo>
                <a:close/>
              </a:path>
              <a:path fill="darken" w="54978" h="21600">
                <a:moveTo>
                  <a:pt x="54978" y="0"/>
                </a:moveTo>
                <a:lnTo>
                  <a:pt x="54978" y="21600"/>
                </a:lnTo>
                <a:lnTo>
                  <a:pt x="53578" y="20200"/>
                </a:lnTo>
                <a:lnTo>
                  <a:pt x="53578" y="1400"/>
                </a:lnTo>
                <a:close/>
              </a:path>
              <a:path fill="darkenLess" w="54978" h="21600">
                <a:moveTo>
                  <a:pt x="54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78" y="20200"/>
                </a:lnTo>
                <a:close/>
              </a:path>
              <a:path fill="lighten" w="54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78" h="21600">
                <a:moveTo>
                  <a:pt x="20483" y="10800"/>
                </a:moveTo>
                <a:lnTo>
                  <a:pt x="34496" y="3794"/>
                </a:lnTo>
                <a:lnTo>
                  <a:pt x="34496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ich event happened first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The goslings hatch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. Avery tries to kill Charlott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. Wilbur escapes from his pe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3200400" y="44197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ich event happened first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Charlotte befriends Wilbu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. Fern feeds Wilbur a bottl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. Templeton gives Wilbur some string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. The old sheep tells Wilbur about the conspiracy to eat him for Christma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85800" y="2743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200400" y="548640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word means “not fair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word means “can be used for many things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word means “to run about in a happy and merry way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his word means “noisy confusion”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is word means “tiring or boring because it always stays the same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AutoShape 4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3200400" y="342900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Final Jeopard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It’s time for Final Jeopard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Each team must decide what amount the team wants to wager on this final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oudy Old Style"/>
              </a:rPr>
              <a:t>Remember: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 If you are wrong the team will </a:t>
            </a:r>
            <a:r>
              <a:rPr b="0" i="1" lang="en-US" sz="3200" spc="-1" strike="noStrike">
                <a:solidFill>
                  <a:srgbClr val="ffffff"/>
                </a:solidFill>
                <a:latin typeface="Goudy Old Style"/>
              </a:rPr>
              <a:t>lose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 the amount of points wag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s character convinced Wilbur to escape from his pe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oper Black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Final Jeopard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Mr. Zuckerman’s first n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o is the goose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AutoShape 4">
            <a:hlinkClick r:id="rId1" action="ppaction://hlinksldjump"/>
          </p:cNvPr>
          <p:cNvSpPr/>
          <p:nvPr/>
        </p:nvSpPr>
        <p:spPr>
          <a:xfrm>
            <a:off x="6781680" y="5562720"/>
            <a:ext cx="2133720" cy="838080"/>
          </a:xfrm>
          <a:custGeom>
            <a:avLst/>
            <a:gdLst>
              <a:gd name="textAreaLeft" fmla="*/ 54000 w 2133720"/>
              <a:gd name="textAreaRight" fmla="*/ 2079720 w 2133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4978" h="21600">
                <a:moveTo>
                  <a:pt x="0" y="0"/>
                </a:moveTo>
                <a:lnTo>
                  <a:pt x="54978" y="0"/>
                </a:lnTo>
                <a:lnTo>
                  <a:pt x="54978" y="21600"/>
                </a:lnTo>
                <a:lnTo>
                  <a:pt x="0" y="21600"/>
                </a:lnTo>
                <a:close/>
              </a:path>
              <a:path fill="lightenLess" w="54978" h="21600">
                <a:moveTo>
                  <a:pt x="0" y="0"/>
                </a:moveTo>
                <a:lnTo>
                  <a:pt x="54978" y="0"/>
                </a:lnTo>
                <a:lnTo>
                  <a:pt x="53578" y="1400"/>
                </a:lnTo>
                <a:lnTo>
                  <a:pt x="1400" y="1400"/>
                </a:lnTo>
                <a:close/>
              </a:path>
              <a:path fill="darken" w="54978" h="21600">
                <a:moveTo>
                  <a:pt x="54978" y="0"/>
                </a:moveTo>
                <a:lnTo>
                  <a:pt x="54978" y="21600"/>
                </a:lnTo>
                <a:lnTo>
                  <a:pt x="53578" y="20200"/>
                </a:lnTo>
                <a:lnTo>
                  <a:pt x="53578" y="1400"/>
                </a:lnTo>
                <a:close/>
              </a:path>
              <a:path fill="darkenLess" w="54978" h="21600">
                <a:moveTo>
                  <a:pt x="54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78" y="20200"/>
                </a:lnTo>
                <a:close/>
              </a:path>
              <a:path fill="lighten" w="54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78" h="21600">
                <a:moveTo>
                  <a:pt x="20483" y="10800"/>
                </a:moveTo>
                <a:lnTo>
                  <a:pt x="34496" y="3794"/>
                </a:lnTo>
                <a:lnTo>
                  <a:pt x="34496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s character told Wilbur there was a conspiracy to eat him at Christmastim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oper Black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o is the old sheep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AutoShape 4">
            <a:hlinkClick r:id="rId1" action="ppaction://hlinksldjump"/>
          </p:cNvPr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1:19:55Z</dcterms:created>
  <dc:creator>Beth</dc:creator>
  <dc:description/>
  <dc:language>en-US</dc:language>
  <cp:lastModifiedBy>Gamel, Rebecca</cp:lastModifiedBy>
  <dcterms:modified xsi:type="dcterms:W3CDTF">2016-03-22T11:43:38Z</dcterms:modified>
  <cp:revision>15</cp:revision>
  <dc:subject/>
  <dc:title>JEOPARDY!</dc:title>
</cp:coreProperties>
</file>